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E895-88E2-41F3-9587-A88D54CD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F3DD-1808-4AC3-B5C2-78EC08177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478-8CC8-41E9-9C5A-F3DEF417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A33D-245A-42E4-94D5-F17CD945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D49-2622-42C4-A690-AEF1FC46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113-7807-405B-9F86-68A0ABF2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665-7508-4B2D-BD17-E7EE81A4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5CD-0F71-4990-BCEA-33F8F693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6C1-68C8-4404-AF2C-C5AE7134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1AE-B84B-47C1-95E3-2602AB70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6E0-6E56-4559-9167-80491C72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823-99F6-45DD-83AE-8E99E069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2AA-67A2-4058-AEBE-57692593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FD3-47BB-4088-A474-0E20FB89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BA40-D5D2-4124-862C-2536767AD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Skyline of Manama, Bahrain photo"/>
          <p:cNvPicPr/>
          <p:nvPr/>
        </p:nvPicPr>
        <p:blipFill>
          <a:blip r:embed="rId2"/>
          <a:stretch/>
        </p:blipFill>
        <p:spPr>
          <a:xfrm>
            <a:off x="6089760" y="4340160"/>
            <a:ext cx="3060720" cy="2524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Map of Bahrain"/>
          <p:cNvPicPr/>
          <p:nvPr/>
        </p:nvPicPr>
        <p:blipFill>
          <a:blip r:embed="rId3"/>
          <a:stretch/>
        </p:blipFill>
        <p:spPr>
          <a:xfrm>
            <a:off x="-6480" y="-6480"/>
            <a:ext cx="3060720" cy="351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Map of Asia"/>
          <p:cNvPicPr/>
          <p:nvPr/>
        </p:nvPicPr>
        <p:blipFill>
          <a:blip r:embed="rId4"/>
          <a:stretch/>
        </p:blipFill>
        <p:spPr>
          <a:xfrm>
            <a:off x="4260960" y="-6480"/>
            <a:ext cx="2682720" cy="281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http://t1.gstatic.com/images?q=tbn:ANd9GcSq18CEVwquig9eysQNnEhKnR5G0q3FeGBoLS_56mVJsRdDtQPn8g"/>
          <p:cNvPicPr/>
          <p:nvPr/>
        </p:nvPicPr>
        <p:blipFill>
          <a:blip r:embed="rId5"/>
          <a:stretch/>
        </p:blipFill>
        <p:spPr>
          <a:xfrm>
            <a:off x="6778800" y="-6480"/>
            <a:ext cx="2371680" cy="28530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" descr=""/>
          <p:cNvPicPr/>
          <p:nvPr/>
        </p:nvPicPr>
        <p:blipFill>
          <a:blip r:embed="rId6"/>
          <a:stretch/>
        </p:blipFill>
        <p:spPr>
          <a:xfrm>
            <a:off x="2614680" y="-146160"/>
            <a:ext cx="2328840" cy="156708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4" descr=""/>
          <p:cNvPicPr/>
          <p:nvPr/>
        </p:nvPicPr>
        <p:blipFill>
          <a:blip r:embed="rId7"/>
          <a:stretch/>
        </p:blipFill>
        <p:spPr>
          <a:xfrm>
            <a:off x="2084400" y="2955960"/>
            <a:ext cx="4316400" cy="3610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0" y="6488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Bah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0" y="3352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n made is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553080" y="3809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hrain 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662940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ity of Man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Flag of Bahrain"/>
          <p:cNvPicPr/>
          <p:nvPr/>
        </p:nvPicPr>
        <p:blipFill>
          <a:blip r:embed="rId8"/>
          <a:stretch/>
        </p:blipFill>
        <p:spPr>
          <a:xfrm>
            <a:off x="-225360" y="4937040"/>
            <a:ext cx="3633840" cy="20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Durrat Al Bahrain, Bahrain photo"/>
          <p:cNvPicPr/>
          <p:nvPr/>
        </p:nvPicPr>
        <p:blipFill>
          <a:blip r:embed="rId9"/>
          <a:stretch/>
        </p:blipFill>
        <p:spPr>
          <a:xfrm>
            <a:off x="-6480" y="3578400"/>
            <a:ext cx="1841760" cy="139032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13" descr=""/>
          <p:cNvPicPr/>
          <p:nvPr/>
        </p:nvPicPr>
        <p:blipFill>
          <a:blip r:embed="rId10"/>
          <a:stretch/>
        </p:blipFill>
        <p:spPr>
          <a:xfrm>
            <a:off x="2298600" y="5772240"/>
            <a:ext cx="22924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15:02:11Z</dcterms:modified>
  <cp:revision>22</cp:revision>
  <dc:subject/>
  <dc:title>Slide 1</dc:title>
</cp:coreProperties>
</file>